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2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F7B4-FE59-4BCD-95E6-682182DCF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0807-F416-41F8-92E3-E0E8EC3FE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B04B-815D-44F4-95E9-E8617DC18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7930-DF67-4EC0-AD4C-771B9120C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DAA9-93DC-4C55-BC39-58972B688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2F29-AFA7-4EF0-A9F8-F57D3B062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22B5-CA57-4104-BF3E-DDE07ADA1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7577-0762-484A-A128-CA8CB1716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8DF-3912-4D52-83C4-D77DE1A0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E946-FD86-44DC-885C-A38E8DEB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2A8-17FF-4A25-A969-C64CA177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5D9-8CBA-4BF0-8ED8-ECFDFFC2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2EB7-B354-40CC-9A9C-143DD3B3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657B-F22F-4381-BA59-009FF188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FC84-A15B-4723-BD92-221785AF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88F3-9F90-42D6-A0C8-3A136B78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C936-3BEC-4EE5-A127-12FE9E42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BC8C-812B-4E9B-B61A-91245399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600D-BEAC-4257-8550-DD948169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9350-903F-4176-B8C3-BFBE05B4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6A73-AED4-468C-A9C7-C8079EA0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8493-1B42-45A2-B110-EFE13314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927C-4922-48DA-B33F-FC9A0160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F0CB-A58D-4991-B8D6-39AB2E2B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F5ED-BB64-48EA-B5C5-97D1EF33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26F-D714-4D0D-BA88-0CEA548A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D8AB7-80B0-4F98-9044-85C880F0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21E27-D90E-4CBD-A8F3-D7D85DB0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A4E03-67BF-4D4B-8C07-883DB514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054-DC56-42C8-A060-9A8AF9D7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FFF16-A0E8-4358-858F-053C009F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12AD0-1802-43B1-A943-85B45C67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D0F64-FE3C-4664-92D4-0E4DEC05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CC6C9-555A-4FFD-9A5E-10C6F57C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61D10-9642-4485-9E85-5B72B209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CEF32-6451-4BFC-9005-7128D201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2EB08-C907-433E-A19B-2D64D7AA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EFA2C-746F-4226-BA4D-5783FD9D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1C817-1788-4540-9E83-DB41576F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4ECEB-5DAC-482F-9307-37CC22EE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BA4-29A6-4DCC-9548-50950511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A0259-D5A3-4D8D-B2D4-B7D1146B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317BF-8A9E-411D-819B-B672C4E2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957B9-1A5A-4CD7-A1F6-E13B3390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246B1-DEC8-42B8-AC44-9EB86BC6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B225E-7760-4639-9EDB-80C8F682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653A9-F665-46F4-AFDE-86B53A68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1CA5D-9516-48C4-8DBA-4E3E9ACE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2FCD1-E41F-480B-92A9-919287F7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3CA88-6C5D-479B-AB99-4A7AC53C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D4022-F5A3-4D59-8623-85A5287E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CE7-A500-4AF0-80CF-6C56A7A7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64A41-6FC6-46F2-BC79-112F49BF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5D1-B70E-4B62-A25D-8EFAB1DF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D49-43EB-4CFD-9CB4-C02F846E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F80-892D-41FD-A48F-2F3C1569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9DB2-8165-4859-8BE6-0E84FCA326B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Picture 21" descr=""/>
          <p:cNvPicPr/>
          <p:nvPr/>
        </p:nvPicPr>
        <p:blipFill>
          <a:blip r:embed="rId2"/>
          <a:stretch/>
        </p:blipFill>
        <p:spPr>
          <a:xfrm>
            <a:off x="7696080" y="6400800"/>
            <a:ext cx="1143000" cy="3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0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c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7238880" y="6172200"/>
            <a:ext cx="1752840" cy="5079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8AB3-CAC0-4DA0-8A0F-E8B29A72F8A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1" descr=""/>
          <p:cNvPicPr/>
          <p:nvPr/>
        </p:nvPicPr>
        <p:blipFill>
          <a:blip r:embed="rId2"/>
          <a:stretch/>
        </p:blipFill>
        <p:spPr>
          <a:xfrm>
            <a:off x="7696080" y="6400800"/>
            <a:ext cx="1143000" cy="3319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1" descr=""/>
          <p:cNvPicPr/>
          <p:nvPr/>
        </p:nvPicPr>
        <p:blipFill>
          <a:blip r:embed="rId2"/>
          <a:stretch/>
        </p:blipFill>
        <p:spPr>
          <a:xfrm>
            <a:off x="7696080" y="6400800"/>
            <a:ext cx="1143000" cy="3319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EAB3-76F6-4462-9153-47652746DB96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1" descr=""/>
          <p:cNvPicPr/>
          <p:nvPr/>
        </p:nvPicPr>
        <p:blipFill>
          <a:blip r:embed="rId2"/>
          <a:stretch/>
        </p:blipFill>
        <p:spPr>
          <a:xfrm>
            <a:off x="7696080" y="6400800"/>
            <a:ext cx="1143000" cy="331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C69B-7446-4000-9A10-6B966297CBE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nyric.wikispaces.com/" TargetMode="External"/><Relationship Id="rId2" Type="http://schemas.openxmlformats.org/officeDocument/2006/relationships/hyperlink" Target="http://www.p12.nysed.gov/technology/programs/techvouchers.html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edtech@mail.nysed.gov" TargetMode="Externa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setda.org" TargetMode="External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25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etda.or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omputer Based Testing Plann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Bandwidth Reference (SETDA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asic Connectivity for Supplemental Enrich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Internet research, e-mail, website, etc.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10 Kbps per student/teacher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merging Reliance on Online Educational Tools and Resourc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Partial 1-to-1 program, download video, dynamic content, collaboration, online assessments, etc.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50 Kbps per student/teacher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nsformation to a Technology-Rich Learning Environ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Rich, multimedia-enhanced educational content, post content (audio and video) to learning management systems, e-textbooks, online assignments, etc.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100 Kbps per student/teacher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rebuchet MS"/>
            </a:endParaRPr>
          </a:p>
        </p:txBody>
      </p:sp>
      <p:pic>
        <p:nvPicPr>
          <p:cNvPr id="323" name="Content Placeholder 3" descr="Screen shot 2013-02-07 at 1.14.11 PM.png"/>
          <p:cNvPicPr/>
          <p:nvPr/>
        </p:nvPicPr>
        <p:blipFill>
          <a:blip r:embed="rId1"/>
          <a:srcRect l="0" t="1959" r="0" b="3035"/>
          <a:stretch/>
        </p:blipFill>
        <p:spPr>
          <a:xfrm>
            <a:off x="457200" y="595440"/>
            <a:ext cx="8229600" cy="551016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"/>
          <p:cNvSpPr/>
          <p:nvPr/>
        </p:nvSpPr>
        <p:spPr>
          <a:xfrm rot="19493400">
            <a:off x="-575280" y="2858400"/>
            <a:ext cx="1026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Formula breaks d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SETDA vs. Real World Experience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26" name="Content Placeholder 3" descr="Screen shot 2013-02-20 at 3.45.11 PM.png"/>
          <p:cNvPicPr/>
          <p:nvPr/>
        </p:nvPicPr>
        <p:blipFill>
          <a:blip r:embed="rId1"/>
          <a:srcRect l="309" t="0" r="92" b="0"/>
          <a:stretch/>
        </p:blipFill>
        <p:spPr>
          <a:xfrm>
            <a:off x="428760" y="1573200"/>
            <a:ext cx="8240400" cy="32623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490644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NYRIC real-world all you can consume model predicts a regional need of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3.5 Gbps by 2014-15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7.0 Gbps by 2017-18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525600" y="3075120"/>
            <a:ext cx="78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NYRI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5 Gbp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50 Gbp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4022640" y="4254480"/>
            <a:ext cx="43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strict network 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NYSED Report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599840"/>
            <a:ext cx="822960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O: Board of Regents, FROM: John B. King, Jr. DATE: February 23, 201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chool Capacity.  A bandwidth of 100 megabits per second (100 mbps) [per building] is a recognized minimum standard by the Regional Information Centers (RICs)”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25320" y="2668680"/>
          <a:ext cx="7937640" cy="3655800"/>
        </p:xfrm>
        <a:graphic>
          <a:graphicData uri="http://schemas.openxmlformats.org/drawingml/2006/table">
            <a:tbl>
              <a:tblPr/>
              <a:tblGrid>
                <a:gridCol w="1330560"/>
                <a:gridCol w="1833480"/>
                <a:gridCol w="2505240"/>
                <a:gridCol w="22683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UD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20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TOTAL # OF BUILDING SIT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# OF REMOTE BUILDINGS WITH LESS THAN 10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% LESS THAN 10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tate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,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9.06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WNYR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4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.35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TOTAL # T-1 AND 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TOTAL # &lt; 20 MBPS &amp; &gt; 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TOTAL # &lt; 100 MBPS &amp; &gt; 2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tate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WNY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rebuchet MS"/>
            </a:endParaRPr>
          </a:p>
        </p:txBody>
      </p:sp>
      <p:pic>
        <p:nvPicPr>
          <p:cNvPr id="334" name="Content Placeholder 3" descr="Screen shot 2013-02-07 at 1.16.34 PM.png"/>
          <p:cNvPicPr/>
          <p:nvPr/>
        </p:nvPicPr>
        <p:blipFill>
          <a:blip r:embed="rId1"/>
          <a:srcRect l="0" t="40" r="0" b="30"/>
          <a:stretch/>
        </p:blipFill>
        <p:spPr>
          <a:xfrm>
            <a:off x="457200" y="684360"/>
            <a:ext cx="8229600" cy="5657760"/>
          </a:xfrm>
          <a:prstGeom prst="rect">
            <a:avLst/>
          </a:prstGeom>
          <a:ln w="0">
            <a:noFill/>
          </a:ln>
        </p:spPr>
      </p:pic>
      <p:sp>
        <p:nvSpPr>
          <p:cNvPr id="335" name="Rounded Rectangle 4"/>
          <p:cNvSpPr/>
          <p:nvPr/>
        </p:nvSpPr>
        <p:spPr>
          <a:xfrm>
            <a:off x="3452760" y="1574640"/>
            <a:ext cx="1886040" cy="1467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NY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5"/>
          <p:cNvSpPr/>
          <p:nvPr/>
        </p:nvSpPr>
        <p:spPr>
          <a:xfrm>
            <a:off x="457200" y="1574640"/>
            <a:ext cx="2698920" cy="1467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Monitor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Have two 10 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Purchase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ounded Rectangle 8"/>
          <p:cNvSpPr/>
          <p:nvPr/>
        </p:nvSpPr>
        <p:spPr>
          <a:xfrm>
            <a:off x="6121440" y="1574640"/>
            <a:ext cx="2076480" cy="1467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97 of 100 districts at 1 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ounded Rectangle 9"/>
          <p:cNvSpPr/>
          <p:nvPr/>
        </p:nvSpPr>
        <p:spPr>
          <a:xfrm>
            <a:off x="457200" y="3278160"/>
            <a:ext cx="1496880" cy="3063960"/>
          </a:xfrm>
          <a:custGeom>
            <a:avLst/>
            <a:gdLst>
              <a:gd name="textAreaLeft" fmla="*/ 73080 w 1496880"/>
              <a:gd name="textAreaRight" fmla="*/ 1423800 w 1496880"/>
              <a:gd name="textAreaTop" fmla="*/ 73080 h 3063960"/>
              <a:gd name="textAreaBottom" fmla="*/ 2990880 h 3063960"/>
            </a:gdLst>
            <a:ahLst/>
            <a:rect l="textAreaLeft" t="textAreaTop" r="textAreaRight" b="textAreaBottom"/>
            <a:pathLst>
              <a:path w="21600" h="44208">
                <a:moveTo>
                  <a:pt x="3600" y="0"/>
                </a:moveTo>
                <a:arcTo wR="3600" hR="3600" stAng="16200000" swAng="-5400000"/>
                <a:lnTo>
                  <a:pt x="0" y="40608"/>
                </a:lnTo>
                <a:arcTo wR="3600" hR="3600" stAng="10800000" swAng="-5400000"/>
                <a:lnTo>
                  <a:pt x="18000" y="442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461 of  477 buildings in region are connected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1 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ounded Rectangle 10"/>
          <p:cNvSpPr/>
          <p:nvPr/>
        </p:nvSpPr>
        <p:spPr>
          <a:xfrm>
            <a:off x="2039760" y="3278160"/>
            <a:ext cx="1497240" cy="3063960"/>
          </a:xfrm>
          <a:custGeom>
            <a:avLst/>
            <a:gdLst>
              <a:gd name="textAreaLeft" fmla="*/ 73080 w 1497240"/>
              <a:gd name="textAreaRight" fmla="*/ 1424160 w 1497240"/>
              <a:gd name="textAreaTop" fmla="*/ 73080 h 3063960"/>
              <a:gd name="textAreaBottom" fmla="*/ 2990880 h 3063960"/>
            </a:gdLst>
            <a:ahLst/>
            <a:rect l="textAreaLeft" t="textAreaTop" r="textAreaRight" b="textAreaBottom"/>
            <a:pathLst>
              <a:path w="21600" h="44197">
                <a:moveTo>
                  <a:pt x="3600" y="0"/>
                </a:moveTo>
                <a:arcTo wR="3600" hR="3600" stAng="16200000" swAng="-5400000"/>
                <a:lnTo>
                  <a:pt x="0" y="40597"/>
                </a:lnTo>
                <a:arcTo wR="3600" hR="3600" stAng="10800000" swAng="-5400000"/>
                <a:lnTo>
                  <a:pt x="18000" y="44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District by distric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heck your testing  are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ounded Rectangle 11"/>
          <p:cNvSpPr/>
          <p:nvPr/>
        </p:nvSpPr>
        <p:spPr>
          <a:xfrm>
            <a:off x="3629160" y="3278160"/>
            <a:ext cx="1496880" cy="3065400"/>
          </a:xfrm>
          <a:custGeom>
            <a:avLst/>
            <a:gdLst>
              <a:gd name="textAreaLeft" fmla="*/ 73080 w 1496880"/>
              <a:gd name="textAreaRight" fmla="*/ 1423800 w 1496880"/>
              <a:gd name="textAreaTop" fmla="*/ 73080 h 3065400"/>
              <a:gd name="textAreaBottom" fmla="*/ 2992320 h 3065400"/>
            </a:gdLst>
            <a:ahLst/>
            <a:rect l="textAreaLeft" t="textAreaTop" r="textAreaRight" b="textAreaBottom"/>
            <a:pathLst>
              <a:path w="21600" h="44228">
                <a:moveTo>
                  <a:pt x="3600" y="0"/>
                </a:moveTo>
                <a:arcTo wR="3600" hR="3600" stAng="16200000" swAng="-5400000"/>
                <a:lnTo>
                  <a:pt x="0" y="40628"/>
                </a:lnTo>
                <a:arcTo wR="3600" hR="3600" stAng="10800000" swAng="-5400000"/>
                <a:lnTo>
                  <a:pt x="18000" y="44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ired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95% with 100 Mbps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naly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12"/>
          <p:cNvSpPr/>
          <p:nvPr/>
        </p:nvSpPr>
        <p:spPr>
          <a:xfrm>
            <a:off x="7189920" y="3278160"/>
            <a:ext cx="1496880" cy="3065400"/>
          </a:xfrm>
          <a:custGeom>
            <a:avLst/>
            <a:gdLst>
              <a:gd name="textAreaLeft" fmla="*/ 73080 w 1496880"/>
              <a:gd name="textAreaRight" fmla="*/ 1423800 w 1496880"/>
              <a:gd name="textAreaTop" fmla="*/ 73080 h 3065400"/>
              <a:gd name="textAreaBottom" fmla="*/ 2992320 h 3065400"/>
            </a:gdLst>
            <a:ahLst/>
            <a:rect l="textAreaLeft" t="textAreaTop" r="textAreaRight" b="textAreaBottom"/>
            <a:pathLst>
              <a:path w="21600" h="44228">
                <a:moveTo>
                  <a:pt x="3600" y="0"/>
                </a:moveTo>
                <a:arcTo wR="3600" hR="3600" stAng="16200000" swAng="-5400000"/>
                <a:lnTo>
                  <a:pt x="0" y="40628"/>
                </a:lnTo>
                <a:arcTo wR="3600" hR="3600" stAng="10800000" swAng="-5400000"/>
                <a:lnTo>
                  <a:pt x="18000" y="44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W/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est practice  and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ounded Rectangle 13"/>
          <p:cNvSpPr/>
          <p:nvPr/>
        </p:nvSpPr>
        <p:spPr>
          <a:xfrm>
            <a:off x="5373720" y="3278160"/>
            <a:ext cx="1496880" cy="3065400"/>
          </a:xfrm>
          <a:custGeom>
            <a:avLst/>
            <a:gdLst>
              <a:gd name="textAreaLeft" fmla="*/ 73080 w 1496880"/>
              <a:gd name="textAreaRight" fmla="*/ 1423800 w 1496880"/>
              <a:gd name="textAreaTop" fmla="*/ 73080 h 3065400"/>
              <a:gd name="textAreaBottom" fmla="*/ 2992320 h 3065400"/>
            </a:gdLst>
            <a:ahLst/>
            <a:rect l="textAreaLeft" t="textAreaTop" r="textAreaRight" b="textAreaBottom"/>
            <a:pathLst>
              <a:path w="21600" h="44228">
                <a:moveTo>
                  <a:pt x="3600" y="0"/>
                </a:moveTo>
                <a:arcTo wR="3600" hR="3600" stAng="16200000" swAng="-5400000"/>
                <a:lnTo>
                  <a:pt x="0" y="40628"/>
                </a:lnTo>
                <a:arcTo wR="3600" hR="3600" stAng="10800000" swAng="-5400000"/>
                <a:lnTo>
                  <a:pt x="18000" y="44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Look for rogue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Gear up for ac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Wireles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MS PGothic"/>
              </a:rPr>
              <a:t>Challenge: laptops, netbooks, TABLE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  <a:ea typeface="MS PGothic"/>
              </a:rPr>
              <a:t>Devices changing to ONLY wireles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  <a:ea typeface="MS PGothic"/>
              </a:rPr>
              <a:t>Expectation to work as well as wired - NOT!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MS PGothic"/>
              </a:rPr>
              <a:t>Design challenges for RELI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  <a:ea typeface="MS PGothic"/>
              </a:rPr>
              <a:t>Coverage, throughput, density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  <a:ea typeface="MS PGothic"/>
              </a:rPr>
              <a:t>Interference!!!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MS PGothic"/>
              </a:rPr>
              <a:t>Strategy: consult, plan, inve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  <a:ea typeface="MS PGothic"/>
              </a:rPr>
              <a:t>WNYRIC has established a best practice design document, continuous updat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  <a:ea typeface="MS PGothic"/>
              </a:rPr>
              <a:t>Site surveys are key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Content Placeholder 3" descr="Screen shot 2013-02-07 at 1.16.52 PM.png"/>
          <p:cNvPicPr/>
          <p:nvPr/>
        </p:nvPicPr>
        <p:blipFill>
          <a:blip r:embed="rId1"/>
          <a:srcRect l="0" t="-984" r="0" b="0"/>
          <a:stretch/>
        </p:blipFill>
        <p:spPr>
          <a:xfrm>
            <a:off x="693720" y="615960"/>
            <a:ext cx="7751880" cy="5533920"/>
          </a:xfrm>
          <a:prstGeom prst="rect">
            <a:avLst/>
          </a:prstGeom>
          <a:ln w="0">
            <a:noFill/>
          </a:ln>
        </p:spPr>
      </p:pic>
      <p:sp>
        <p:nvSpPr>
          <p:cNvPr id="346" name="Rounded Rectangle 3"/>
          <p:cNvSpPr/>
          <p:nvPr/>
        </p:nvSpPr>
        <p:spPr>
          <a:xfrm>
            <a:off x="1752480" y="609480"/>
            <a:ext cx="56880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omputer Based Testing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Questions and information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lders and explan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 and 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rebuchet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rebuchet MS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Guidance from NYSED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mo – January 2013 – posted on </a:t>
            </a:r>
            <a:r>
              <a:rPr b="0" lang="en-US" sz="24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wiki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(www.wnyric.wikispaces.com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24240" indent="-2336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PARCC Technology Guidelines v. 2.0 Dec 2012 and short version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24240" indent="-2336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TRT data entry and use – under revision (compare devices to cohort for now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unding guidance and PD op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crosoft settlement vouchers – from funds to lawsuit settled in 2006 (87 million unclaimed) </a:t>
            </a:r>
            <a:r>
              <a:rPr b="0" lang="en-US" sz="24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Vouch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24240" indent="-2336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Predetermined by terms of the settlement: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2" marL="875880" indent="-207720">
              <a:spcBef>
                <a:spcPts val="300"/>
              </a:spcBef>
              <a:buClr>
                <a:srgbClr val="ff99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Georgia"/>
              </a:rPr>
              <a:t>F and R lunch %age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  <a:p>
            <a:pPr lvl="2" marL="875880" indent="-207720">
              <a:spcBef>
                <a:spcPts val="300"/>
              </a:spcBef>
              <a:buClr>
                <a:srgbClr val="ff99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Georgia"/>
              </a:rPr>
              <a:t>Only public schools  and Charters– no Non Pubs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  <a:p>
            <a:pPr lvl="1" marL="624240" indent="-2336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The application </a:t>
            </a:r>
            <a:r>
              <a:rPr b="0" lang="en-US" sz="2000" spc="-1" strike="noStrike" u="sng">
                <a:solidFill>
                  <a:srgbClr val="438086"/>
                </a:solidFill>
                <a:uFillTx/>
                <a:latin typeface="Georgia"/>
              </a:rPr>
              <a:t>will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 be part of the online voucher system which will be available in April 2013.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24240" indent="-2336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Vouchers can be used up until Nov. 1, 14 – partial or in full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Technology Readiness Tool (TRT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plete the tool especially if you are getting Microsoft voucher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your district doesn’t have an authorized user or it needs to change email </a:t>
            </a:r>
            <a:r>
              <a:rPr b="0" lang="en-US" sz="24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edtech@mail.nysed.gov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adiness does not mean readiness – check your “testing devices ready” against your largest cohorts in your testing bands for a better gauge of device gap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sting window – keep at 6 since PARCC just put in “testing starts” which has to do with the performance based testing 5 x /year and if you have less than 6 it wouldn’t make any sens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TRT – Continued….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CC is still working on it – they will have vendor go in and make a global change to testing window - # of days” when decided.  There is also another tool coming intended to determine a good testing window for a school build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re was a snapshot taken again on 2/15/1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etwork indicator report TBD – if you go to recommended you will see i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The Testing Environment and Item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we don’t know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pacing between studen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Testing accommodations for special needs/ELL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Can multiple locations be used for a testing cohort?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Final decision on testing items – PARCC or NOT – Answer: The BOR must wait until both PARCC and CBT has more finality until they make a decision. (must see PARCC, 3-8 and Regents – very soonest would be winter 2013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ngs a district should think about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Where may be some logical locations?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How many special needs accommodations would you need? 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Questions already sent to NYSED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commendations for headphones - districts supplying or parents providing due to sanitary reas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ES licensing – Can this be purchased through the voucher program for the software voucher? – Answer – We’ll know more in April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t out possibilities to still use pencil/paper?   Answer: No CBT police but do you believe that technology is an integral part of instruction moving forward. If yes; think strategically and make a plan. If gap is too large, NYSED may have to move target but won’t until earnest planning is don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Questions asked of NYSED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Questions for NYSED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Digital Activity Requirement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66" name="Content Placeholder 5" descr="Screen shot 2013-02-20 at 2.38.11 PM.png"/>
          <p:cNvPicPr/>
          <p:nvPr/>
        </p:nvPicPr>
        <p:blipFill>
          <a:blip r:embed="rId1"/>
          <a:srcRect l="-226" t="0" r="-241" b="-6737"/>
          <a:stretch/>
        </p:blipFill>
        <p:spPr>
          <a:xfrm>
            <a:off x="312840" y="2058840"/>
            <a:ext cx="8545320" cy="304164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522612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ource: The Broadband Imperative, p. 21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TDA, </a:t>
            </a: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www.setda.or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rebuchet MS"/>
            </a:endParaRPr>
          </a:p>
        </p:txBody>
      </p:sp>
      <p:pic>
        <p:nvPicPr>
          <p:cNvPr id="369" name="Content Placeholder 3" descr="Screen shot 2013-02-07 at 1.14.28 PM.png"/>
          <p:cNvPicPr/>
          <p:nvPr/>
        </p:nvPicPr>
        <p:blipFill>
          <a:blip r:embed="rId1"/>
          <a:srcRect l="2639" t="6607" r="0" b="55"/>
          <a:stretch/>
        </p:blipFill>
        <p:spPr>
          <a:xfrm>
            <a:off x="569880" y="569880"/>
            <a:ext cx="801216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nimum/recommended specific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nimum specification support ends 15/16 (Sept ‘14 end of life = Windows XP 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PARCC – says don’t use it after minimum standards end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WNYRIC  Support of Windows XP on shared network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placement cyc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ripherals (keyboards/microphones/headphon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1" name="Picture 2" descr="C:\Users\sprzywara\Pictures\CBT-Win7.jpg"/>
          <p:cNvPicPr/>
          <p:nvPr/>
        </p:nvPicPr>
        <p:blipFill>
          <a:blip r:embed="rId1"/>
          <a:stretch/>
        </p:blipFill>
        <p:spPr>
          <a:xfrm>
            <a:off x="838080" y="914400"/>
            <a:ext cx="609840" cy="668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sprzywara\Pictures\CBT-OSX Lion.jpg"/>
          <p:cNvPicPr/>
          <p:nvPr/>
        </p:nvPicPr>
        <p:blipFill>
          <a:blip r:embed="rId2"/>
          <a:stretch/>
        </p:blipFill>
        <p:spPr>
          <a:xfrm>
            <a:off x="1523880" y="838080"/>
            <a:ext cx="609840" cy="711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C:\Users\sprzywara\Pictures\CBT-Ubuntu11.jpg"/>
          <p:cNvPicPr/>
          <p:nvPr/>
        </p:nvPicPr>
        <p:blipFill>
          <a:blip r:embed="rId3"/>
          <a:stretch/>
        </p:blipFill>
        <p:spPr>
          <a:xfrm>
            <a:off x="2133720" y="838080"/>
            <a:ext cx="685800" cy="690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sprzywara\Pictures\CBT-Fedora16.jpg"/>
          <p:cNvPicPr/>
          <p:nvPr/>
        </p:nvPicPr>
        <p:blipFill>
          <a:blip r:embed="rId4"/>
          <a:stretch/>
        </p:blipFill>
        <p:spPr>
          <a:xfrm>
            <a:off x="2895480" y="914400"/>
            <a:ext cx="533520" cy="536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C:\Users\sprzywara\Pictures\CBT-ChromeOS19.jpg"/>
          <p:cNvPicPr/>
          <p:nvPr/>
        </p:nvPicPr>
        <p:blipFill>
          <a:blip r:embed="rId5"/>
          <a:srcRect l="22197" t="0" r="24327" b="0"/>
          <a:stretch/>
        </p:blipFill>
        <p:spPr>
          <a:xfrm>
            <a:off x="5715000" y="914400"/>
            <a:ext cx="609480" cy="546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6" descr="C:\Users\sprzywara\Pictures\CBT-Headphones-Mic.jpg"/>
          <p:cNvPicPr/>
          <p:nvPr/>
        </p:nvPicPr>
        <p:blipFill>
          <a:blip r:embed="rId6"/>
          <a:srcRect l="29270" t="0" r="0" b="0"/>
          <a:stretch/>
        </p:blipFill>
        <p:spPr>
          <a:xfrm>
            <a:off x="6629400" y="5257800"/>
            <a:ext cx="1003320" cy="1295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7" descr="C:\Users\sprzywara\Pictures\CBT-Laptop.jpg"/>
          <p:cNvPicPr/>
          <p:nvPr/>
        </p:nvPicPr>
        <p:blipFill>
          <a:blip r:embed="rId7"/>
          <a:stretch/>
        </p:blipFill>
        <p:spPr>
          <a:xfrm>
            <a:off x="4876920" y="5638680"/>
            <a:ext cx="849240" cy="762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8" descr="C:\Users\sprzywara\Pictures\CBT-PC.jpg"/>
          <p:cNvPicPr/>
          <p:nvPr/>
        </p:nvPicPr>
        <p:blipFill>
          <a:blip r:embed="rId8"/>
          <a:stretch/>
        </p:blipFill>
        <p:spPr>
          <a:xfrm>
            <a:off x="2971800" y="5486400"/>
            <a:ext cx="987480" cy="762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9" descr="C:\Users\sprzywara\Pictures\CBT-RAM.jpg"/>
          <p:cNvPicPr/>
          <p:nvPr/>
        </p:nvPicPr>
        <p:blipFill>
          <a:blip r:embed="rId9"/>
          <a:stretch/>
        </p:blipFill>
        <p:spPr>
          <a:xfrm>
            <a:off x="1219320" y="2362320"/>
            <a:ext cx="685800" cy="4982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1" descr="C:\Users\sprzywara\Pictures\CBT-Resolutions.jpg"/>
          <p:cNvPicPr/>
          <p:nvPr/>
        </p:nvPicPr>
        <p:blipFill>
          <a:blip r:embed="rId10"/>
          <a:stretch/>
        </p:blipFill>
        <p:spPr>
          <a:xfrm>
            <a:off x="4495680" y="2286000"/>
            <a:ext cx="762120" cy="6253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2" descr="C:\Users\sprzywara\Pictures\CBT-iOS6.jpg"/>
          <p:cNvPicPr/>
          <p:nvPr/>
        </p:nvPicPr>
        <p:blipFill>
          <a:blip r:embed="rId11"/>
          <a:stretch/>
        </p:blipFill>
        <p:spPr>
          <a:xfrm>
            <a:off x="6934320" y="838080"/>
            <a:ext cx="685800" cy="631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3" descr="C:\Users\sprzywara\Pictures\CBT-AndroidIceCreamSandwich.jpg"/>
          <p:cNvPicPr/>
          <p:nvPr/>
        </p:nvPicPr>
        <p:blipFill>
          <a:blip r:embed="rId12"/>
          <a:stretch/>
        </p:blipFill>
        <p:spPr>
          <a:xfrm>
            <a:off x="6324480" y="762120"/>
            <a:ext cx="609840" cy="725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4" descr="C:\Users\sprzywara\Pictures\CBT-Win8.jpg"/>
          <p:cNvPicPr/>
          <p:nvPr/>
        </p:nvPicPr>
        <p:blipFill>
          <a:blip r:embed="rId13"/>
          <a:stretch/>
        </p:blipFill>
        <p:spPr>
          <a:xfrm>
            <a:off x="7696080" y="838080"/>
            <a:ext cx="617760" cy="609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0" descr="C:\Users\sprzywara\Pictures\CBT-ScreenSize.jpg"/>
          <p:cNvPicPr/>
          <p:nvPr/>
        </p:nvPicPr>
        <p:blipFill>
          <a:blip r:embed="rId14"/>
          <a:stretch/>
        </p:blipFill>
        <p:spPr>
          <a:xfrm>
            <a:off x="2590920" y="2286000"/>
            <a:ext cx="990360" cy="577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C:\Users\sprzywara\Pictures\CBT-BluetoothKeyboard.jpg"/>
          <p:cNvPicPr/>
          <p:nvPr/>
        </p:nvPicPr>
        <p:blipFill>
          <a:blip r:embed="rId15"/>
          <a:srcRect l="6164" t="8346" r="13840" b="8346"/>
          <a:stretch/>
        </p:blipFill>
        <p:spPr>
          <a:xfrm>
            <a:off x="914400" y="5562720"/>
            <a:ext cx="1066680" cy="820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5" descr="C:\Users\sprzywara\Pictures\CBT-NICCard.jpg"/>
          <p:cNvPicPr/>
          <p:nvPr/>
        </p:nvPicPr>
        <p:blipFill>
          <a:blip r:embed="rId16"/>
          <a:stretch/>
        </p:blipFill>
        <p:spPr>
          <a:xfrm>
            <a:off x="6629400" y="2209680"/>
            <a:ext cx="838080" cy="6876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Device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Device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ngs for districts to think about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lanning for devic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evice Spacing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iPad Mini, Kindle, and Smartphones = not supported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evice Continuity (i.e. user familiarity with device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Keyboarding skills and instruction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pares?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ssible tools to think of using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TEM Reporting – for asset discovery (provided in energy grant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N Computing – multiple keyboards/device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toneware/Classlink  – virtual desktop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Use the MS Settlement $ if listed to receiv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300" name="Picture 5" descr="C:\Users\sprzywara\Pictures\CBT-Crystal Ball.jpg"/>
          <p:cNvPicPr/>
          <p:nvPr/>
        </p:nvPicPr>
        <p:blipFill>
          <a:blip r:embed="rId1"/>
          <a:stretch/>
        </p:blipFill>
        <p:spPr>
          <a:xfrm>
            <a:off x="1523880" y="609480"/>
            <a:ext cx="1257480" cy="990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C:\Users\sprzywara\Pictures\CBT-Key-CrystalBall.jpg"/>
          <p:cNvPicPr/>
          <p:nvPr/>
        </p:nvPicPr>
        <p:blipFill>
          <a:blip r:embed="rId2"/>
          <a:stretch/>
        </p:blipFill>
        <p:spPr>
          <a:xfrm>
            <a:off x="6629400" y="4952880"/>
            <a:ext cx="1600200" cy="1006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C:\Users\sprzywara\Pictures\CBT-Unique.jpg"/>
          <p:cNvPicPr/>
          <p:nvPr/>
        </p:nvPicPr>
        <p:blipFill>
          <a:blip r:embed="rId3"/>
          <a:stretch/>
        </p:blipFill>
        <p:spPr>
          <a:xfrm>
            <a:off x="6781680" y="990720"/>
            <a:ext cx="1447920" cy="1191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C:\Users\sprzywara\Pictures\CBT-TestSpace.jpg"/>
          <p:cNvPicPr/>
          <p:nvPr/>
        </p:nvPicPr>
        <p:blipFill>
          <a:blip r:embed="rId4"/>
          <a:stretch/>
        </p:blipFill>
        <p:spPr>
          <a:xfrm>
            <a:off x="7391520" y="3124080"/>
            <a:ext cx="135864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Device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paration to think about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arging op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st  battery  lif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uidance and what can districts do toda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Budget to buy batteries/spares/charger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Budget for network wired/wireless connection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ecurity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Georgia"/>
              </a:rPr>
              <a:t>Lock Down Policies (i.e. GPO,zenworks)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Georgia"/>
              </a:rPr>
              <a:t>ARD,Supervise/MDM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Georgia"/>
              </a:rPr>
              <a:t>Content Filtering - Ron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306" name="Picture 3" descr="C:\Users\sprzywara\Pictures\CBT-WiFi.jpg"/>
          <p:cNvPicPr/>
          <p:nvPr/>
        </p:nvPicPr>
        <p:blipFill>
          <a:blip r:embed="rId1"/>
          <a:srcRect l="16658" t="16996" r="16733" b="0"/>
          <a:stretch/>
        </p:blipFill>
        <p:spPr>
          <a:xfrm>
            <a:off x="6705720" y="3809880"/>
            <a:ext cx="609480" cy="744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C:\Users\sprzywara\Pictures\CBT-ElecPlug.jpg"/>
          <p:cNvPicPr/>
          <p:nvPr/>
        </p:nvPicPr>
        <p:blipFill>
          <a:blip r:embed="rId2"/>
          <a:stretch/>
        </p:blipFill>
        <p:spPr>
          <a:xfrm>
            <a:off x="3809880" y="2057400"/>
            <a:ext cx="1371600" cy="1022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C:\Users\sprzywara\Pictures\CBT-PCLockdown.jpg"/>
          <p:cNvPicPr/>
          <p:nvPr/>
        </p:nvPicPr>
        <p:blipFill>
          <a:blip r:embed="rId3"/>
          <a:stretch/>
        </p:blipFill>
        <p:spPr>
          <a:xfrm>
            <a:off x="4038480" y="5410080"/>
            <a:ext cx="1062000" cy="692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4" descr="C:\Users\sprzywara\Pictures\CBT-Batteries.jpg"/>
          <p:cNvPicPr/>
          <p:nvPr/>
        </p:nvPicPr>
        <p:blipFill>
          <a:blip r:embed="rId4"/>
          <a:stretch/>
        </p:blipFill>
        <p:spPr>
          <a:xfrm>
            <a:off x="6248520" y="4952880"/>
            <a:ext cx="1307880" cy="10670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5" descr="C:\Users\sprzywara\Pictures\CBT-BatteryTest.jpg"/>
          <p:cNvPicPr/>
          <p:nvPr/>
        </p:nvPicPr>
        <p:blipFill>
          <a:blip r:embed="rId5"/>
          <a:srcRect l="0" t="0" r="0" b="17049"/>
          <a:stretch/>
        </p:blipFill>
        <p:spPr>
          <a:xfrm>
            <a:off x="6629400" y="2590920"/>
            <a:ext cx="1390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Lightspeed Content Filtering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TextBox 3"/>
          <p:cNvSpPr/>
          <p:nvPr/>
        </p:nvSpPr>
        <p:spPr>
          <a:xfrm>
            <a:off x="685800" y="1371600"/>
            <a:ext cx="7848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nsure you are upgraded to the “Next Generation Suite”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Bind your filtering to your direc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Create a PARCC Rul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Filter based upon the following 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IP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Computer 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Use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Use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User 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Web Z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Arial"/>
              </a:rPr>
              <a:t>A Web Zone is a vehicle for controlling classroom Internet access beyond assigned Web Filter policies. With a Zone, a teacher can completely shut off Internet access, limit access to just a few web sites, or open access beyond normal Web Filter poli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Fixed Zones - by IP address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Open Zones -  Zone Managers, create them, populate them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content and then activate them.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Network Objective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view national studies and “recommended” practic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There is a lot of attention focused on Broadband acces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Consortium for School Networking (COSN)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State Educational Technology Directors Association (SETDA)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late what has/is happening in WNY to the national scen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Tangible results through everyone’s effort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Regional collaboration to leave no district behind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rovide a framework for meeting the infrastructure demands of online assessment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Some Statistic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80% of schools in the country lack adequate broadband to meet education and business needs today” (COS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:1 ratio of students to devices will drive the need for additional bandwidth as BYOD grows in schools” (COS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ore likely to see 3:1 ratio of devices to studen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nhanced technologies will drive bandwidth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How Much Internet (SETDA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e useful metric is </a:t>
            </a:r>
            <a:r>
              <a:rPr b="0" i="1" lang="en-US" sz="2800" spc="-1" strike="noStrike">
                <a:solidFill>
                  <a:srgbClr val="008000"/>
                </a:solidFill>
                <a:latin typeface="Georgia"/>
              </a:rPr>
              <a:t>bandwidth-per-student/teac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which directly correlates with the quality of a student’s online experienc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04440" indent="-2264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It defines a framework for assessing bandwidth requirements based on what the users, both students and teachers, truly need to engage in … internet activity”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35520" indent="-235080">
              <a:lnSpc>
                <a:spcPct val="8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aders must consider </a:t>
            </a:r>
            <a:r>
              <a:rPr b="0" lang="en-US" sz="2800" spc="-1" strike="noStrike">
                <a:solidFill>
                  <a:srgbClr val="008000"/>
                </a:solidFill>
                <a:latin typeface="Georgia"/>
              </a:rPr>
              <a:t>the number of concurrent and peak connection time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schools when evaluating their broadband needs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Source: The Broadband Imperative, p. 21 SETDA,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www.setda.org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35520" indent="-235080">
              <a:lnSpc>
                <a:spcPct val="8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TextBox 3"/>
          <p:cNvSpPr/>
          <p:nvPr/>
        </p:nvSpPr>
        <p:spPr>
          <a:xfrm rot="19252200">
            <a:off x="733680" y="1929240"/>
            <a:ext cx="787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Good concep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Needs refin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14:10Z</dcterms:created>
  <dc:creator>Candace Reimer</dc:creator>
  <dc:description/>
  <dc:language>en-US</dc:language>
  <cp:lastModifiedBy>E1 Staff</cp:lastModifiedBy>
  <dcterms:modified xsi:type="dcterms:W3CDTF">2013-03-15T15:09:21Z</dcterms:modified>
  <cp:revision>140</cp:revision>
  <dc:subject/>
  <dc:title>Slide 1</dc:title>
</cp:coreProperties>
</file>